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0.wmf" ContentType="image/x-wmf"/>
  <Override PartName="/ppt/media/image9.jpeg" ContentType="image/jpeg"/>
  <Override PartName="/ppt/media/image11.wmf" ContentType="image/x-wmf"/>
  <Override PartName="/ppt/media/image23.gif" ContentType="image/gif"/>
  <Override PartName="/ppt/media/image7.png" ContentType="image/png"/>
  <Override PartName="/ppt/media/image6.jpeg" ContentType="image/jpeg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0EB22-6894-49AE-90DB-2007CED5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4A3BD-E2E0-4A0D-94FB-8DA399B7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E25B7-29AF-442E-8B7A-78B45E1B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925F5-0F7B-4FDF-9EAB-D49C1BF5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1353-E618-455C-A5F5-06ACF3FC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9541-479C-4930-8D2E-A6EB0BBE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4A59-2B89-45FF-B34B-E869AADE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EC22-E394-4AA3-A10A-A92DF828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8149-4001-461D-B6D0-177338BB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3661-AC01-4B64-85F0-5D4AD041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8768-CE6E-4D9B-A10B-78856F2F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835F6-C191-4C25-B727-45847AB9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C1C0-47DE-4266-BDBF-16D5CB7A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97C2-7B39-4859-BBEE-91B1CB7F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9E71-B98E-4AFF-AEC4-008FAF75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DE71-8747-45BF-BC84-90B0152C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BF2B-6A98-4831-816B-3403CD4B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C3D28-DF0B-44E1-94FC-7637C79F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8A6E-1A79-44A6-9AC0-6462ED46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F99E1-B4CC-4468-BFF1-04420BE7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CC7F4-B191-403E-9296-13F66020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EA0DD-0A9C-4623-B8FC-79F74EE9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EA97-511A-46A5-9A2F-35143D27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E7656-986F-415B-9ECA-B8FFE6D2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4FCB-AF2E-4B27-BCD5-359B5430D53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5D55-FF51-4865-A675-C1184941ED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5CE8-1A18-4318-987F-A326AF865BB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490B-7D3B-4125-95E0-393C725CA1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BA60-E386-4585-BBA3-70AB2894A21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D9BD-D2C3-475E-94D5-7C4E4BC623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989840" cy="28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Garamond"/>
              </a:rPr>
              <a:t>Проблемы безопасности и экологичности НТ</a:t>
            </a: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486900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екция №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6BAA-419E-4281-A55B-1840D584FE3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784C-3F37-48FC-BF01-21A628DB21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cc00"/>
                </a:solidFill>
                <a:latin typeface="Garamond"/>
              </a:rPr>
              <a:t>Основные нанообъекты (НО)</a:t>
            </a:r>
            <a:br>
              <a:rPr sz="4500"/>
            </a:b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E69C-872A-4A93-BC3E-36D77087A68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79D4-F3AE-4149-BD4D-6D2F94E73D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НО удобно разделить на </a:t>
            </a:r>
            <a:r>
              <a:rPr b="1" lang="ru-RU" sz="3200" spc="-1" strike="noStrike" u="sng">
                <a:solidFill>
                  <a:srgbClr val="ffffcc"/>
                </a:solidFill>
                <a:uFillTx/>
                <a:latin typeface="Garamond"/>
              </a:rPr>
              <a:t>три главных типа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3200" spc="-1" strike="noStrike" u="sng">
                <a:solidFill>
                  <a:srgbClr val="ffffcc"/>
                </a:solidFill>
                <a:uFillTx/>
                <a:latin typeface="Garamond"/>
              </a:rPr>
              <a:t>на основе углерод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фуллерены, нанотрубки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3200" spc="-1" strike="noStrike" u="sng">
                <a:solidFill>
                  <a:srgbClr val="ffffcc"/>
                </a:solidFill>
                <a:uFillTx/>
                <a:latin typeface="Garamond"/>
              </a:rPr>
              <a:t>на металлической основ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квантовые точки, нанокристаллы золота, серебра, окисей титана, цинка и т.д.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• </a:t>
            </a:r>
            <a:r>
              <a:rPr b="1" lang="ru-RU" sz="3200" spc="-1" strike="noStrike" u="sng">
                <a:solidFill>
                  <a:srgbClr val="ffffcc"/>
                </a:solidFill>
                <a:uFillTx/>
                <a:latin typeface="Garamond"/>
              </a:rPr>
              <a:t>нанокомпозиты и древовидны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дендритные)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Garamond"/>
              </a:rPr>
              <a:t>структур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на полимерной основе, органические и неорганические наноплен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F79B-30C2-47FE-948C-522DB7977CE9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FB3E-AD45-486D-807C-D7F4AFC28F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56908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3000" indent="-1143000" algn="ctr">
              <a:buClr>
                <a:srgbClr val="ffcc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Garamond"/>
              </a:rPr>
              <a:t>НО на основе углерода</a:t>
            </a:r>
            <a:r>
              <a:rPr b="1" i="1" lang="ru-RU" sz="60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1.1 фуллерены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1.2  нанотрубк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1.3 алмазоид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72B8-1407-4AC0-992C-00E8E94C7D5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40DA-F073-4B23-8FE2-3A63147B9D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1.1.  Фуллере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иболее известные и широко применяемые в настоящее время НО –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фуллерен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 молекулярные соединения, принадлежащие классу аллотропных форм углерода и представляющие собой выпуклые замкнутые многогранники, составленные из четного числа трехкоординированных атомов углерод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B936-CDFF-464A-8006-8C34B8B72D6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7F1D-2832-4C2E-AF10-5D5F6D0D5F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уллерены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ыли открыты в 1985 г. при исследовании масс-спектров графит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уппа исследователей в спектрах паров углерода обнаружила линии, соответствующие 720 и 840 а.е., принадлежащие молекулам С60 и С70 соответственн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4BF7-74FA-43A1-B58D-4AB484741CB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89B8-7513-4EE6-ABC9-5AA9D811A6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уллерены: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 60         С 70          С 8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332000" y="3357720"/>
            <a:ext cx="678636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Дата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FACA-0C40-4B0A-B01A-66A1ADB1FA5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8286-E6EF-489E-9855-FCD977B808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Нижний колонтитул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Наиболее распространенная форма фуллерена -          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                                молекула С60:</a:t>
            </a:r>
            <a:br>
              <a:rPr sz="28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компьютерная модель            фото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3313440" cy="3313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"/>
          <p:cNvPicPr/>
          <p:nvPr/>
        </p:nvPicPr>
        <p:blipFill>
          <a:blip r:embed="rId2"/>
          <a:stretch/>
        </p:blipFill>
        <p:spPr>
          <a:xfrm>
            <a:off x="4572000" y="3036960"/>
            <a:ext cx="39607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3A8E-A383-4708-B459-FEC0446B85F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222A-7A7F-4554-B02C-1A0F382AA4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олекула С60 имеет форму усеченного икосаэдра, а С70 - вытянутую эллипсоидальную форму. Фуллерен C70, отличающийся от фуллерена C60 вставкой пояса из 10 атомов углерода в экваториальную область C60, менее распространён, чем С60, но вполне обычен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ак называемые высшие фуллерены, содержат до 400 атомов углерода, образуются в незначительных количествах и имеют довольно сложный изомерный соста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иболее изучены высшие фуллерены Cn, n=74, 76, 78, 80, 82 и 84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AF36-C420-4432-A725-FF33DB51C81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4255-668A-407E-AD60-F8A63546D9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именение фуллеренов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уллерены обладают нелинейными оптическими свойствами и имеют большие перспективы для использования в качестве ограничителей лазерного излучения и модуляторов добротности благодаря высокому быстродействию ~250 пс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олекулярный кристалл фуллерена является полупроводником с запрещенной зоной ~1.5 эВ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торезисторы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22AF-9FE8-4025-931F-4EA6CD05A8A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40D8-0130-4BC3-A5D1-4D4188F3B2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именение легированных фуллеренов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таллические проводники, переходящие при низких температурах в сверхпроводники (К3С60 – Т=19 К,  RbCs2С60 —  33 К 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одифицирование аккумуляторов и электрических батарей, основой которых являются литиевые катоды с добавками фуллерен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079D-A6EF-4E8D-877A-3DBA94493D0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F8DC-2553-4B11-B6D9-C8CC1A95EF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Бурное развитие НТ и применение НО в промышленных масштабах уже в ближайшее десятилетие способно качественно изменить жизнь людей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A137-2769-499C-B5EA-419C6BC0E3C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873E-3F6B-4CDB-8F5E-193CB2D08C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Garamond"/>
              </a:rPr>
              <a:t>1.2.  Углеродные нанотрубки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Это протяженные цилиндрические структуры диаметром от одного до нескольких десятков нанометров и длиной до нескольких сантиметров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Нанотрубки состоят из одной или нескольких свернутых в трубку гексагональных графитовых плоскостей (графенов) с полусферической головкой на конце. Эти трубки нередко получаются многослойными, представляя собой несколько однослойных нанотрубок, вложенных одна в другую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Дата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9AE8-9089-44F5-B6B3-F66478080A2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4E87-4055-4999-90FC-0D2A66C0A5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Нижний колонтитул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ото углеродных нанотрубо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1"/>
          <a:stretch/>
        </p:blipFill>
        <p:spPr>
          <a:xfrm>
            <a:off x="800280" y="1600200"/>
            <a:ext cx="3227040" cy="4708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фотоУгНТр"/>
          <p:cNvPicPr/>
          <p:nvPr/>
        </p:nvPicPr>
        <p:blipFill>
          <a:blip r:embed="rId2"/>
          <a:stretch/>
        </p:blipFill>
        <p:spPr>
          <a:xfrm>
            <a:off x="4572000" y="2492280"/>
            <a:ext cx="403848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Дата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ED55-E311-44FC-AB10-4A64632A0DE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18F4-648B-41F3-9CEF-0EC103432C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Garamond"/>
              </a:rPr>
              <a:t>компьютерные модели углеродных нанотрубок : </a:t>
            </a:r>
            <a:br>
              <a:rPr sz="2800"/>
            </a:br>
            <a:r>
              <a:rPr b="1" i="1" lang="ru-RU" sz="2800" spc="-1" strike="noStrike">
                <a:solidFill>
                  <a:srgbClr val="e5e5ff"/>
                </a:solidFill>
                <a:latin typeface="Garamond"/>
              </a:rPr>
              <a:t> однослойная                            многослойная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1" name="Picture 7" descr="однослойная Нтрубка"/>
          <p:cNvPicPr/>
          <p:nvPr/>
        </p:nvPicPr>
        <p:blipFill>
          <a:blip r:embed="rId1"/>
          <a:stretch/>
        </p:blipFill>
        <p:spPr>
          <a:xfrm>
            <a:off x="457200" y="1927080"/>
            <a:ext cx="4038480" cy="3872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"/>
          <p:cNvPicPr/>
          <p:nvPr/>
        </p:nvPicPr>
        <p:blipFill>
          <a:blip r:embed="rId2"/>
          <a:stretch/>
        </p:blipFill>
        <p:spPr>
          <a:xfrm>
            <a:off x="4762440" y="1933560"/>
            <a:ext cx="3810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5EFA-56FD-4ADE-BD0B-9752455BB80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3E79-59D8-46BF-A1DA-BBCE9F9ACD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ерспективы применения нанотрубок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верхпрочные нити, композитные материалы, нановес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ранзистор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нопровод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опливные элементы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псулы для активных молекул, хранение металлов и газов, нанопипетк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зрачные проводящие поверхности, дисплеи, светодио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C17E-890C-4FEA-AFD6-2581E33C4319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5DF5-B619-42BD-8A40-9FC3D1A1A6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Одностенные нанотрубки </a:t>
            </a:r>
            <a:br>
              <a:rPr sz="32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(индивидуальные, в небольших сборках или в сетях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Garamond"/>
              </a:rPr>
              <a:t>миниатюрные датчики для обнаружения молекул в газовой среде или в растворах с ультравысокой чувствительностью – при адсорбции на поверхности нанотрубки молекул ее электросопротивление, а также характеристики нанотранзистора могут изменяться.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Garamond"/>
              </a:rPr>
              <a:t>Такие нанодатчики могут использоваться для мониторинга окружающей среды, в военных, медицинских и биотехнологических применениях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C309-505B-48B2-8EE3-4D582B62462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A015-BD55-45CC-ABB5-0E1EAD3172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1.3 Алмазои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нанокристллы углерода или гидрокарбоната, в которых атомы углерода образуют алмазоподобную тетраэдральную пространственную сетку с конфигурацией электронных орбиталей sp3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В природе алмазоид встречается в сырой нефти в виде молекул низших гидрокарбонатов — адамантана (C10H16), диамантана (C14H20) и триамантана (C18H24)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BCEC-00C9-4A9A-945A-4CFD15A1D5D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CABE-8AF6-45CA-965F-DD8B101EC1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Свойства этих материалов различны, схожи со свойствами природного алмаза (модуль Юнга &gt; 1050 ГПа, Тпл &gt;2000 K, плотность 3500 кг/м3).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Любой предмет, изготовленный из алмазоидов, будет во всём превосходить аналогичный предмет из стали, а также окажется значительно легче аналогов из других материалов.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Такие уникальные свойства алмазоида объясняются высокой энергией ковалентных связей С-С.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Характеристики алмазоида можно менять, включая в его пространственную структуру различные добавки, и получая, например, материалы с различной электропроводностью, гибкостью и гидрофобностью. Это делает алмазоиды весьма перспективными для авиакосмической, автомобильной, судостроительной промышленности.</a:t>
            </a:r>
            <a:r>
              <a:rPr b="0" lang="ru-RU" sz="25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216A-B7E2-49EB-963A-68921CBCA2F9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30F5-BD44-4CD2-AC45-2D1266447B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cc00"/>
                </a:solidFill>
                <a:latin typeface="Garamond"/>
              </a:rPr>
              <a:t>2. НО на металлической основе</a:t>
            </a: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1045-95C7-4C94-A313-2A04AA73244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3E50-36C6-4DF8-801A-AC6557A52E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Неорганические НО на металлической основе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c00"/>
                </a:solidFill>
                <a:uFillTx/>
                <a:latin typeface="Garamond"/>
              </a:rPr>
              <a:t>Квантовые точк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- плотно упакованные полупроводниковые нанокристаллы, содержащие от нескольких сотен до нескольких тысяч атомов и имеющие размеры от нескольких нанометров до нескольких сотен нанометр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менение размеров квантовых точек меняет их оптические свойст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3F6B-A5E1-4E18-9522-8AF6EF5865D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B1F4-2FB4-4BCA-8193-7A1BE93C58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Нижний колонтитул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Компьютерная модельквантовой точки на основе нанокристалла арсенида галлия, состоящего из 465 атомов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3816360" cy="3524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48320" y="2781000"/>
            <a:ext cx="403848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8" name="Picture 7" descr="квантовая точка"/>
          <p:cNvPicPr/>
          <p:nvPr/>
        </p:nvPicPr>
        <p:blipFill>
          <a:blip r:embed="rId2"/>
          <a:stretch/>
        </p:blipFill>
        <p:spPr>
          <a:xfrm>
            <a:off x="4356000" y="3068640"/>
            <a:ext cx="446580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9CC9-0B92-4345-9FFB-402907613D3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A209-D80C-419C-87A1-EB9239F195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84358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Несмотря на сознаваемую в последнее время опасность нерегулируемого развития НТ из-за токсичности НО для живых организмов и недостаточной изученности миграционной способности НО в ОС, НТ могут обеспечить радикальное преобразование как современного производства и связанных с ним технологий, так и человеческой жизни в целом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41EA-6C2A-42FB-82E0-59A9C025318C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C5D6-CE60-4AED-BD68-FE0C20D454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Garamond"/>
              </a:rPr>
              <a:t>Другие НО на металлической основе - неорганические нанокристаллы золота, серебра, окисей и солей различных металлов (ZnO, Si, SiNx, Au, CdSe, CdS, Fe3O4), способны образовывать прочные комплексы с самым широким спектром неорганических (в том числе с атомарным кислородом и молекулярным водородом) и органических молекулами и структурами (в том числе ДНК).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Дата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2FC7-52AB-4208-83E8-E7BF2537040E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B825-A0E4-43B3-97CD-E4F0C9EB2C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Нижний колонтитул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нокристалл окиси цинка и нанодеревья фосфида галл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3600360" cy="3357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2227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52FA-34F2-4D31-B0CC-C6C080FE7C99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4445-8EDD-4AD7-89C8-DAF722B35C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именени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фотоэлектрическиеи топливные элементы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лазерная техника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медицина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защита окружающей среды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1D00-36CB-40DB-8A20-6CB364963D3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4EF8-7249-4B57-913B-A5C95F5B0F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Например, импульсом к исследованию свойств наночастиц серебра послужили хорошо известные биоцидные свойства металлического серебр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едполагается, что эти свойства могут быть многократно усилены за счет их малых размеров и значительной удельной поверхност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Это позволит создать биоцидное средство нового типа, эффективное в очень малых дозах, обладающее широким спектром антимикробного действия и экологически безопасное 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Дата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EC4D-29AF-4101-AC2E-4BC5671DCFB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57AD-B09B-466A-BEEF-83D1858601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Нижний колонтитул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ночастицы коллоидного серебр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403848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8320" y="2997000"/>
            <a:ext cx="403848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4" name="Picture 7" descr="наносеребро-1"/>
          <p:cNvPicPr/>
          <p:nvPr/>
        </p:nvPicPr>
        <p:blipFill>
          <a:blip r:embed="rId1"/>
          <a:stretch/>
        </p:blipFill>
        <p:spPr>
          <a:xfrm>
            <a:off x="539640" y="3284640"/>
            <a:ext cx="3888000" cy="2773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наносеребро-2"/>
          <p:cNvPicPr/>
          <p:nvPr/>
        </p:nvPicPr>
        <p:blipFill>
          <a:blip r:embed="rId2"/>
          <a:stretch/>
        </p:blipFill>
        <p:spPr>
          <a:xfrm>
            <a:off x="4572000" y="3357720"/>
            <a:ext cx="432108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Дата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14CE-F32D-418D-BBDA-6C648EF3747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C9D0-13E8-4D1C-97BA-BD2EC4D680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Нижний колонтитул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3. Нанокомпозиты и древовидные структуры НО </a:t>
            </a:r>
            <a:br>
              <a:rPr sz="4400"/>
            </a:b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на полимерной основе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0535-2C11-4B21-9ABB-C74D06DC084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ED9F-3037-49F6-8182-57C73B8091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и наноразмерные полимеры строятся из органических, органометаллических, органосиликатных и т.п. блоков, имеющих разветвленную структур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х объединение в более сложные конструкции может придавать им специфические свойства, делая их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применени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заманчивым в процессах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химического катализа, для очистки загрязнений, точной доставки лекарств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и так дале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6399-3468-4E44-857F-D3B0BB31581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B107-3D54-4020-A40E-E467513B30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омпьютерная модель роста древовидного нанополимер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80643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Дата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CEC0-6863-40E8-BB25-1B5B528D108D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Номер слайда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CA8E-63E6-478E-9D37-862CB85A2A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Нижний колонтитул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4398840" cy="49291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932000" y="907560"/>
            <a:ext cx="3754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ионеорганический комплекс молекулы окиси титан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в центре) с ДНК  (компьютерная модель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C1C2-C847-4376-B824-B5441120D5B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9D72-EE02-4166-96F5-B8ACC90F6B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907920"/>
            <a:ext cx="7846920" cy="274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Garamond"/>
              </a:rPr>
              <a:t>Перенос НО в организме человека и окружающей среде</a:t>
            </a: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Источники поступления наночастиц в окружающую сред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2B85-8517-4CEF-A8DD-92A6995AC97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825C-214A-43FA-BC57-AEB11CCCFB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Однако эти перспективы останутся миражами без действенного контроля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за безопасностью использования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НТ и применения НО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От эффективной системы обеспечения безопасности НТ напрямую будет зависеть выживаемость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человечества в XXI веке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BBC4-2650-4C43-9D28-C95B3EE1B13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C86C-D98B-48A0-9AEF-72301AE5D3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Ч в ОС – явление не ново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 настоящему времени кроме естественных источников поступления НЧ, существует множество источников ненамеренного антропогенного загрязнения ОС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началом эры НТ к ним добавляется целый ряд намеренно созданных источников поступления НО в различные природные среды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398F-807B-4369-B932-B726C48FE6A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68A3-145A-4F89-B3EF-6FB2A87971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Источники поступления НЧ в ОС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907920"/>
          <a:ext cx="8229600" cy="5491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4776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ирод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нтропоген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намерен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мерен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ластеризация в газах и образование аэрозол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жигание топлива 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вигателях, на энергостанция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конструированные нано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есные пожар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жигание мусо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уллерен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улканические выб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варка, пай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нотруб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ыль, поднятая с поверхности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змучивание в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быча полезных ископаемых, карьеры, шах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органические нанокристаллы, квантовые точ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иру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ытовые от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екарства «точного» действ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одукты жизнедеятель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пленки, коллоиды и т.д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омышленное производство, строитель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нопленки, мицеллы, коллои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иообъекты (пыльца растений, споры, бактерии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иготовление пищи и другие бытовые нуж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именение НО в бы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960C-A410-4EA9-807B-8D8D92C23DB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8366-42CB-4CC5-9102-7F48F0688F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Пути миграции НЧ, подтвержденные экспериментально (сплошная линия), и предполагаемые (точки). Возможные источники и причины деградации обозначены курсивом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276120" y="2133720"/>
            <a:ext cx="8867880" cy="40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903B-C0CA-4E3D-AAED-15920D9F35C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F602-EA7E-4609-BEE3-31A6A828D9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 атмосфере НЧ с линейным размером менее 100 нм ведут себя в соответствии с газовыми законами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корость их диффузии обратно пропорциональна размеру, а скорость гравитационного осаждения – пропорциональна размеру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05F6-2891-4DC2-B91C-F5465309598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2EF1-25B9-4486-8E73-94E4075D4C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Пути поступления НО </a:t>
            </a: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в организм человек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Garamond"/>
              </a:rPr>
              <a:t>Миграция НЧ в ОС и последующее воздействие на живые организмы связано: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Garamond"/>
              </a:rPr>
              <a:t>с ингаляцией, то есть поступлением с вдыхаемым воздухом через легкие;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Garamond"/>
              </a:rPr>
              <a:t>поступлением с водой и пищей через ЖКТ;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Garamond"/>
              </a:rPr>
              <a:t>поступлением через кожные покровы и слизистые оболочки;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Garamond"/>
              </a:rPr>
              <a:t>воздействием со стороны загрязненных поверхностей;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Garamond"/>
              </a:rPr>
              <a:t>поступлением через жабры в кровеносную систему водных организмов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5A5D-DE9F-43B3-BE6D-9EBBD112C06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22E8-B890-48A4-8DFD-6E03C1CF6F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Однако, большинство НО нельзя однозначно отнести к «загрязняющим» веществам, они могут поступать в организм человек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5075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 счет намеренного воздействия при инъекциях или иных медицинских, косметических или оздоровительных процедурах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-за постоянного контакта с бытовыми предметами и материалами, выполненными с использованием 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D2AC-CAF0-4EB9-A997-47C70A0A549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7416-D14B-44AB-8C2A-4FA3D611EE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Если пути миграции в ОС и воздействия на жизнедеятельность организмов достаточно очевидны (кроме последнего)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то о миграционных свойствах НЧ в ОС известно крайне мало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52A0-12A1-4B64-A7FB-08EAFB5A148E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B11A-5B61-4785-A599-5EED0379BA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условиях явно недостаточной информации о миграционной способности НО в ОС и организмах крайне привлекательными выглядят попытки использовать накопленные к настоящему времени обширные знания о миграции мезо- и микрочастиц такой же химической природы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днако такие попытки сразу сталкиваются с серьёзными проблемами, связанными, по-видимому, с высокой удельной поверхностью НЧ по сравнению с удельной поверхностью их аналог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724E-D75B-495E-BCE8-992C04572D5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0B3D-6B39-4B60-8295-3750E25476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ледствием этого является не только отмеченная в различных работах значительно повышенная растворимость НЧ, но и их потенциально высокая сорбционная способность и высокая энергия связи с другими молекулам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 приводит к образованию в растворах сложных и малоизученных комплексов с окружающими молекулами, меняющими миграционные способности НЧ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BFEA-0F83-4275-86FD-0B3F86EEC03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97BE-C944-4E43-82C4-C65608A044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-за очень большой удельной поверхности НЧ относительная значимость пути проникновения и воздействия на живые организмы через их поверхность может быть более высокой, чем для «обычных» вещест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то же время исследования размеров НЧ в атмосферном воздухе населенных пунктов и вблизи мест производственной деятельности показывают значительный разброс, как их размеров, так и концентраци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A4CE-9694-442F-B90A-0DFB5097AFA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C3DA-5AE4-4EE6-9C3A-46EE0C0CAF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самого начала необходимо обеспечить оценку безопасности для полного цикла существования любой вводимой в действие нанотехнологии. Должна оцениваться безопасность на экспериментальной стадии в исследовательском учреждении, безопасность пилотных разработок, безопасность промышленного производства, безопасность во всех сферах применения, безопасность в возможных аварийных ситуациях, безопасность при выводе технологии из эксплуатации и при хранении и захоронении отходов, содержащих 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B38A-181F-4383-980C-0134900791A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0002-3521-4FF2-A600-C2F5F05541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Типичные концентрации и размеры аэрозольных НЧ в атмосфере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как результат человеческой деятельности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95280" y="1700280"/>
          <a:ext cx="7993080" cy="4306680"/>
        </p:xfrm>
        <a:graphic>
          <a:graphicData uri="http://schemas.openxmlformats.org/drawingml/2006/table">
            <a:tbl>
              <a:tblPr/>
              <a:tblGrid>
                <a:gridCol w="3672000"/>
                <a:gridCol w="2305080"/>
                <a:gridCol w="2016000"/>
              </a:tblGrid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ид деятель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нцентрация НЧ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х 10</a:t>
                      </a:r>
                      <a:r>
                        <a:rPr b="0" lang="ru-RU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см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азмер, н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ородская среда, помещ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- 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иготовление пищ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- 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 - 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арьерные рабо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80 - 5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Шлифовка, обработка металл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- 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 - 1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ытовая пайка и свар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- 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 - 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омышленная свар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 - 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 - 1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роительная свар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- 5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 -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лазменная рез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 - 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0 - 1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эропорты, дорог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- 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- 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9F46-172E-4D95-BE7B-C0080866A984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EB95-2BA7-4029-A0FD-B169A81FD6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ак как миграционные способности НЧ зависят не только от их химической природы, но от их размера и структуры, сильно влияющих на величину их удельной поверхности, неопределённость в оценке их миграционной способности значительна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0787-1603-4A68-B477-BDC25CE2844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D794-E660-4A35-874A-489E78C2E0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настоящее время подходы, основанные на оценке дозы по общей поверхности НЧ в единице объема, полагаются наиболее адекватными, хотя иногда применяются и способы оценки дозы на основе числа частиц или массовой концентрац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1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играционные способности НЧ в водной среде ещё более зависимы от их удельной поверхности, чем в атмосферном воздух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9A35-7C69-473B-B489-A0DCE431BAC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99DD-EB6A-4535-A234-588CDACF68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Соотношение между числом НЧ и их поверхностью для разного линейного размера НЧ при концентрации в воздухе 10 мкг/м3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57200" y="2276640"/>
          <a:ext cx="8229600" cy="3849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инейный размер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Число частиц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м</a:t>
                      </a:r>
                      <a:r>
                        <a:rPr b="0" lang="ru-RU" sz="20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бщая поверхность, 10</a:t>
                      </a:r>
                      <a:r>
                        <a:rPr b="0" lang="ru-RU" sz="20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3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м</a:t>
                      </a:r>
                      <a:r>
                        <a:rPr b="0" lang="ru-RU" sz="20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/м</a:t>
                      </a:r>
                      <a:r>
                        <a:rPr b="0" lang="ru-RU" sz="20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Дата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5CDD-3D20-4BA0-AD9C-346798946B9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A99E-26E5-46C4-B267-5418848094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Нижний колонтитул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Миграция НО </a:t>
            </a:r>
            <a:br>
              <a:rPr sz="4400"/>
            </a:b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в организме человека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E392-B692-4946-AA53-EC01BC3F914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B43D-A996-49E1-849C-A7E1368F97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мер НЧ оказывается существенным фактором при определении их растворимости (следовательно, физико-химической формы их нахождения в растворе), способности поступать внутрь живых организмов и проникать в клетки через клеточные мембраны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такие способности, как обсуждается ниже, присущи целому ряду НО, которые могут проникать через клеточные мембраны во внутриклеточное пространство, представляя серьёзную угрозу, как метаболизму, так и процессам, связанным с использованием генетического материала клетки (транскрипция, репликация, репарация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6B14-B0C8-4205-9F3B-48F4D449989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5152-9369-4193-9494-BD08A123D4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Пути миграции ингалированных НЧ в организме человека и их возможное воздействие на организм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63" name="Picture 4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57531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D63F-C5A9-4ED0-B4AF-989C41A1A334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4DBB-1AA6-414A-A2DE-6E508A07DD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 сожалению, специальных экспериментов или исследований миграции ОНТ в человеческом организме, среди рассмотренной литературы не отмечено, однако ряд работ ставит вопрос об экстраполяции результатов экспериментов с животными (крысы, мыши) и культурами человеческих тканей in situ на организмы in viv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е эти работы находятся пока на начальной стад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A16B-132E-41A0-987A-A7886B50F684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7DF0-7392-4202-A1B0-33A9B96410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Garamond"/>
              </a:rPr>
              <a:t>Заманчиво адапитровать обширные экспериментальные данные и модели метаболизма различных химических соединений для описания трансформации и переноса НЧ сходной структуры или химических свойств в живых организмах и, таким образом, оценить вероятную токсичность НЧ по токсичности их мезо- и микроаналогов.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Garamond"/>
              </a:rPr>
              <a:t>Фактически, именно такие подходы позволили выработать модели миграции НЧ в организме человека (рисунок 9) и таким образом использовать имеющиеся данные (рисунок 10) для предварительного анализа и оценки риска 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5F6B-2E16-42B5-B559-704A265F0E7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74B7-9B91-4AC9-9AF2-5754903A7E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В целом, имеющийся набор данных о миграции НО в живых организмах позволяет утверждать: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овое поступление НО в организм животного вызывает воспалительный эффект, величина которого зависит от дозы НО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О накапливаются в органах и тканях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никая и накапливаясь в костном мозге и нервных клетках центральной (ЦНС) и перифирической нервной системы ПНС), НО оказывают негативное воздействие на функционирование ЦНС и ПНС, приводя к хроническим воспалениям и нарушениям сердечно-сосудистой деятельност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О накапливаются в лимфоузлах, костном мозге, легких, печени, почка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C230-EDD2-4380-A96D-FEFBD0E6CB2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D62C-B972-4995-84E9-B28C2356BE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Более традиционный вид опасности НО связан с их физико-химическими свойствами,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их высокой дисперсностью и характером процессов взаимодействия НО с элементами живой клетки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CEF8-A693-4DEB-9051-E3CE1E67FA7E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53FA-ABB1-486C-8018-A2CB108246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Одновременно следует иметь в виду, что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сутствуют данные по долговременному воздействию НО на организм человек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сутствуют данные по долговременному воздействию НО на организм животных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меющиеся данные в основном получены на лабораторных мышах и крысах in vitro, данные in vivo практически полностью отсутствую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Дата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A6E1-4188-487B-B120-337A47458B9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5AAB-0973-4AB1-BA41-31A9F2ED52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Нижний колонтитул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Механизмы проникновения НО внутрь живой клетки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F3B6-83F6-4B85-948A-28C614EFD8B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2B46-DC76-4536-B7A5-F429D39800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Проведенные к настоящему времени эксперименты позволяют утверждать, что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НО способны воздействовать на метаболизм живой клетки, нарушая его естественный ход, в том числе за счет образования свободных радикалов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на клеточном уровне НО способны проникать внутрь митохондрий и блокировать митохондриальную активность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НО способны вызывать повреждение ДНК в экспериментах с изолированными клетками, в том числе за счет блокирования рибосомной активности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6D4F-67E4-4A37-A753-9E1C6F2B8E0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EFFA-E734-4C74-BD5D-434BA9FAAD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еханизмы проникновения НО внутрь живых клеток через биобарьеры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95" name="Picture 4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2627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7043-5329-45B6-8535-8A94B7CA7B1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D684-1530-4884-B7EC-5B1A522DA0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чевидно, что проникновение НО через поверхностные клетки легких человека (эффективная площадь около 140 м2) и ЖКТ (200 м2) более значимо, чем через неповрежденную поверхность кожи (1.5 м2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3CB7-0849-4238-9D3B-826D4DA2CB1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D410-B773-41E7-A368-34FA08E153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дной из существенных проблем в исследовании эффекта нанотоксичности является определение понятия «доза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настоящее время нет однозначного мнения по этому вопросу, поэтому используются различные подходы к определению «дозы»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3   Проблема определения «дозы» и зависимости «доза-эффект» для НЧ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1518-A6D4-4C93-B3AA-A1FF1B6E6F29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D895-CB6C-4835-ACCD-81AADEB79B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одходы к определению «дозы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«массовый»,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при котором дозовой характеристикой служит общая масса НЧ в рассматриваемом объеме, массе или объект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«численный»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- учитывается общее число НЧ в рассматриваемом объеме, массе или объект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«поверхностный»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- используется общая поверхность НЧ в рассматриваемом объеме, массе или объект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903C-B1A3-4E8A-B194-FFADC9A53CC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6439-EF4D-4E05-9167-60328AF3C6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иболее удобным для выявления зависимости «доза-эффект» является «поверхностный» подход, тогда как «массовый» является наименее пригодным, так как не учитывает различие в токсическом эффекте НЧ разного размер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8857-0604-427D-81C1-C8B85E828E3B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D9DC-3B74-4DDA-B3FB-823E845334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250560" y="4508640"/>
            <a:ext cx="87138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висимость «доза-эффект» для НЧ окиси титана для крыс (вверху) и мышей (внизу) для «массовой» концепции дозы (слева) и «поверхностной» концепции дозы (справа). В качестве эффекта рассматривались воспалительные явления в клетках легки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1930320" y="274680"/>
            <a:ext cx="59547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2C71-BBAB-4C8D-BD5E-6FE0821E7F7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74E2-6644-4645-AA46-B3838C04A2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0" y="4005000"/>
            <a:ext cx="8964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Возможные формы зависимости «доза-эффект» в области малых «доз». Горизонтальная прерывистая линия разделяет область токсичности (сверху) и область благоприятного действия (снизу) НЧ. Пунктирный овал в правом верхнем углу – область проводимых исследований. Буквами обозначены различные формы зависимости: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L – линейная зависимость (ионизирующая радиация);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T – пороговая зависимость (большинство ядовитых веществ);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S – надлинейная зависимость (химические вещества);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H – сублинейная (большинство лекарственных средств)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tretch/>
        </p:blipFill>
        <p:spPr>
          <a:xfrm>
            <a:off x="1895400" y="260280"/>
            <a:ext cx="53755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B9EE-C044-4F97-8C59-5A092114DD8D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6824-6A5B-474D-88BC-4368584758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щей особенностью воздействия НО и ионизирующих излучений на живые клетки является образование свободных радикалов и перекисей. Оценка безопасности для НО должна включать описание биологических воздействий, их дозиметрические характеристики, связь этих характеристик с наблюдаемыми уровнями биологических эффектов (кривые доза-эффект), количественное описание этих эффектов и управление этими эффектами путем применения процедур оптимизации и соблюдения пределов воздействий. При этом дозиметрия НО становится началом такой цепочки оцено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230A-E11C-4852-AF6B-FDE54E6F5C8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AC7B-3078-4AB9-AB4B-1041765A05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4. </a:t>
            </a:r>
            <a:r>
              <a:rPr b="1" i="1" lang="ru-RU" sz="4000" spc="-1" strike="noStrike">
                <a:solidFill>
                  <a:srgbClr val="e5e5ff"/>
                </a:solidFill>
                <a:latin typeface="Garamond"/>
              </a:rPr>
              <a:t>Физические основы биологического воздействия НО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Garamond"/>
              </a:rPr>
              <a:t>Главные выводы, заставляющие внимательно исследовать физические основы биологического воздействия НО, логично вытекающие из рассмотренных выше результатов немногочисленных экспериментов, следующие: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10000"/>
              </a:lnSpc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Garamond"/>
              </a:rPr>
              <a:t>1) токсичность зависит от концентрации НЧ и площади их поверхности, а не от массы/объема;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10000"/>
              </a:lnSpc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Garamond"/>
              </a:rPr>
              <a:t>2) токсичность НЧ выше, чем токсичность микрочастиц такого же размера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09FA-15BB-4268-8532-C74A85FB1029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555B-BF41-4381-AF36-3FC569EF89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менно эти результаты заставляют отказаться от формального переноса уже достаточно изученных токсических свойств веществ известного химического состава на Н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вое, что бросается в глаза – это зависимость токсичности не от массы или объема НЧ, присутствующих в среде, а от их поверхности. Из набора сил, известных классической физики, таким свойствам обладают лишь силы трен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1F02-4CDB-4892-8980-5EEBFC854FB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33D1-6F59-4327-881B-B56930F663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5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Эти «поверхностные» силы значительно возрастают относительно прочих, «объемных» (гравитационных, электромагнитных…), сил при уменьшении размера объект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о этой причине следует ожидать ведущую роль диссипативных и адгезивных сил на наноуровне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Возможно, в природе сил взаимодействия нанобоъектов и кроется разгадка их дополнительной, по сравнению с мезо- и микрообъектами такой же химической природы, опасности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E27F-C81A-4CF3-9342-C03BD197F30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72A3-69A6-46BF-B250-0AF7CDCA09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настоящее время для описания взаимодействия нанообъектов используют различные уровни моделирования, от чисто феноменологического, по своей сути иммитационного, до полуэмпирического на основе моделей классической молекулярной динамики с заданным потенциалом, и формально-алгоритмических, на основе методов вероятностных асинхронных клеточных автоматов в моделях неидеальных газ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ти модели носят чисто описательный характер и используются скорее для формализации наблюдаемых экспериментальных результатов, чем для предсказаний возможных эффектов на наноуровне, и потому вряд ли способны пролить свет на причину гипертоксичности нанообъект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A46E-64EE-4EFB-A19D-58B90EE813B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D2CA-0921-4AB6-B09B-D11AA55A84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ли рассматривать вещество в наномасштабе, то, по сравнению с известными, «классическими» фазовыми состояниями, следует рассматривать особое фазовое состояние вещества, в котором из-за наноразмеров структурных элементов ведущую роль играют квантовомеханические эффекты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5B7E-1BAC-4740-9FE3-D2276663502E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5CE0-98EA-49D2-9D5E-C5AF01B99F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Поэтому и научными гипотезами, потенциально обладающими предсказательной перспективой токсичных эффектов НЧ и НС, в большей степени являются следующие: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7138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вантовомеханические (шредингеровские), в которых система из атомных ядер (ионов) и электронов описывается на основе уравнений Шредингер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вантовомеханические модели молекулярной динамики, в которых используются уравнения Шредингера для определения потенциала межъядерных взаимодействи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вантовомеханические на основе эффекта Казимир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CE63-4C06-45AD-B094-C9EB1AC543E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1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D9C5-C37B-425A-9D44-3B33297663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вые два подхода больше подходят для описания взаимодействий электронных наноустройств, ассемблеров и квантовых точек и мало пригодны для описания взаимодействия НО со сложными биологическим молекулами и структура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2A2C-C8BB-46FC-8841-2967AC0760B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C64C-4BFE-4E2A-9E0B-70F625D728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Рассмотрим типичные для таких подходов рассуждения. Как уже отмечалось, поступая в ОС, НЧ вступают во взаимодействие с окружающим их веществом, образуя наносистемы (НС). Среда неоднородна, и сами НЧ неодинаковы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Состояние НС характеризуется в любой момент времени функциями распределения НЧ и участков среды по параметрам состояния. НС открыта, и потому изменяется из-за наличия потока вещества и энергии из-за её границ. Решение задачи полагает выявление связи между функциями распределения НЧ с функциями распределения среды, параметрами состояния и потоками вещества и энергии для отработки молекулярно-кинетических и квантово-механических гипотез изменения (эволюции) НС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3739-6626-4F1C-B51F-FCE126CF973C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AC81-1F4D-4904-98F5-EDE48445FF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Наиболее привлекательным для решения проблем гигиенической и экологической безопасности НТ и НО выглядит квантовомеханический подход на основе эффекта Казимира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457200" y="2060640"/>
          <a:ext cx="8229600" cy="4065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5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жду двумя параллельными зеркальными пластинами в вакууме (а) из-за флуктуаций электромагнитного поля возникает сила притяжения F (сила Казимира), прямо пропорциональная площади пластин А и обратно пропорциональна 4-й степени расстояния d между ним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3" name="Picture 53" descr=""/>
          <p:cNvPicPr/>
          <p:nvPr/>
        </p:nvPicPr>
        <p:blipFill>
          <a:blip r:embed="rId1"/>
          <a:stretch/>
        </p:blipFill>
        <p:spPr>
          <a:xfrm>
            <a:off x="826920" y="2244600"/>
            <a:ext cx="2881440" cy="20750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5" descr=""/>
          <p:cNvPicPr/>
          <p:nvPr/>
        </p:nvPicPr>
        <p:blipFill>
          <a:blip r:embed="rId2"/>
          <a:stretch/>
        </p:blipFill>
        <p:spPr>
          <a:xfrm>
            <a:off x="900000" y="4335480"/>
            <a:ext cx="25923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4512-0885-405B-82D9-26DC2A9011D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04C3-5DBF-4D22-9BEE-851B512E88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ла Казимира очень слаба: два зеркала с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A=1 см2 на расстоянии d = 1 мкм притягиваются с силой в F=0.1 мкН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днако на наномасштабе давлени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здаваемое эффектом Казимир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равнимо с атмосферным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поэтому его необходимо принимать в расче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68E2-0548-4CB5-A7C5-D65E5F257C60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48A9-DA87-4E68-A92F-B674596A45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качестве физической меры потенциального воздействия НО предлагаются различные величины и, в частности, поверхность НО на единицу объема в воздухе или в вод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раженность эффекта будет определяться чувствительностью биологической системы к конкретным НО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ряде случаев для этих же целей может быть использовано измерение опосредованных величин – выхода свободных радикалов на единицу массы или объемной концентрации перекисных соединени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A847-899C-4B69-8DC8-8404239778FD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271B-805D-4D0F-B617-D01112916B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507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ближение между НО приводит к возрастанию силы Казимир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 вполне может объяснить возникновение свободных радикалов при воздействии НЧ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живой организм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3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2CBD-45AB-4C1B-BCF0-32221F61E53C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Rectangle 14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5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F605-FE43-4A68-BCA6-1AFDF5793C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СПАСИБО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ЗА ВНИМАНИЕ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656400" cy="24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78" name="Picture 4" descr="Колокольчики"/>
          <p:cNvPicPr/>
          <p:nvPr/>
        </p:nvPicPr>
        <p:blipFill>
          <a:blip r:embed="rId1"/>
          <a:stretch/>
        </p:blipFill>
        <p:spPr>
          <a:xfrm>
            <a:off x="3132000" y="3860640"/>
            <a:ext cx="3024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03D4-F229-4C91-9762-E77036A134CE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202D-55FB-4845-9562-7E150112CF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.Е. Пустовая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еспечение безопасности персонала при работе с НО требует разработки и применения такого рода дозиметрических методик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просы переноса НО внутри организма человека, так же как и переноса НО в природных средах и через компоненты экосистем также вписываются в рамки традиционного подхода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адиоэкологи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9:47:35Z</dcterms:created>
  <dc:creator>Lora</dc:creator>
  <dc:description/>
  <dc:language>en-US</dc:language>
  <cp:lastModifiedBy>Larisa</cp:lastModifiedBy>
  <dcterms:modified xsi:type="dcterms:W3CDTF">2020-04-06T08:09:54Z</dcterms:modified>
  <cp:revision>10</cp:revision>
  <dc:subject/>
  <dc:title>Проблемы безопасности и экологичности НТ</dc:title>
</cp:coreProperties>
</file>